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gif" ContentType="image/gif"/>
  <Override PartName="/ppt/media/image1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BDA81-677E-4D90-80E9-5AEED7B8A3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E490E-4017-44A2-B52F-A2110CD7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19496-F3EE-4219-A513-4B1E608E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AE59A-63D7-495C-AADA-04A483EB16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525AF-DB1D-4F03-920A-1C71D437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85F60-8CD6-4C52-B241-B65E8803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3F84D-F3B6-4BD5-8A16-2D25B367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9E886-E55D-4CE4-9C9C-A362FC24F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2ED42-5C0D-49B5-A6A1-54BC36ABF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47697-DC7A-4CB1-B9C8-45DC5B45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99539-8329-473A-AA6A-20E37F06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E2419-2858-4768-AC4D-FA68FED4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3EC9-FB86-45F8-9B7C-08C6E31437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5.xm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781360"/>
            <a:ext cx="69246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第十二节  呕血与黑便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685800" y="4572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十二指肠降部溃疡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3" descr="8"/>
          <p:cNvPicPr/>
          <p:nvPr/>
        </p:nvPicPr>
        <p:blipFill>
          <a:blip r:embed="rId1"/>
          <a:stretch/>
        </p:blipFill>
        <p:spPr>
          <a:xfrm>
            <a:off x="685800" y="1828800"/>
            <a:ext cx="3828960" cy="3462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8"/>
          <p:cNvPicPr/>
          <p:nvPr/>
        </p:nvPicPr>
        <p:blipFill>
          <a:blip r:embed="rId2"/>
          <a:stretch/>
        </p:blipFill>
        <p:spPr>
          <a:xfrm>
            <a:off x="4643280" y="1828800"/>
            <a:ext cx="388620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4" descr="15"/>
          <p:cNvPicPr/>
          <p:nvPr/>
        </p:nvPicPr>
        <p:blipFill>
          <a:blip r:embed="rId1"/>
          <a:stretch/>
        </p:blipFill>
        <p:spPr>
          <a:xfrm>
            <a:off x="1415880" y="0"/>
            <a:ext cx="63835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4556160" y="26028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食管静脉曲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3" descr="J:\xhnj\xiao\4-5-30a.jpg"/>
          <p:cNvPicPr/>
          <p:nvPr/>
        </p:nvPicPr>
        <p:blipFill>
          <a:blip r:embed="rId1"/>
          <a:stretch/>
        </p:blipFill>
        <p:spPr>
          <a:xfrm>
            <a:off x="76320" y="1700280"/>
            <a:ext cx="4495680" cy="4186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图片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675320" y="1700280"/>
            <a:ext cx="43606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道出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4" descr="胆道出血"/>
          <p:cNvPicPr/>
          <p:nvPr/>
        </p:nvPicPr>
        <p:blipFill>
          <a:blip r:embed="rId1"/>
          <a:stretch/>
        </p:blipFill>
        <p:spPr>
          <a:xfrm>
            <a:off x="317520" y="1403280"/>
            <a:ext cx="4444920" cy="4800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est术后出血"/>
          <p:cNvPicPr/>
          <p:nvPr/>
        </p:nvPicPr>
        <p:blipFill>
          <a:blip r:embed="rId2"/>
          <a:stretch/>
        </p:blipFill>
        <p:spPr>
          <a:xfrm>
            <a:off x="4716360" y="1628640"/>
            <a:ext cx="4013280" cy="44643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468360" y="1557360"/>
            <a:ext cx="8136000" cy="45356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351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过程：</a:t>
            </a: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前兆，呕出血性胃内容物，继而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出血部位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幽门以上：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</a:t>
            </a:r>
            <a:r>
              <a:rPr b="0" lang="en-US" sz="2800" spc="-1" strike="noStrike">
                <a:solidFill>
                  <a:srgbClr val="969696"/>
                </a:solidFill>
                <a:latin typeface="黑体"/>
                <a:ea typeface="黑体"/>
              </a:rPr>
              <a:t>+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幽门以下：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出血量及在胃内停留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出血量大，时间短，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鲜红色，紫红色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出血量小，时间长，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咖啡色，稠厚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失血量估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4" descr="zhd21"/>
          <p:cNvPicPr/>
          <p:nvPr/>
        </p:nvPicPr>
        <p:blipFill>
          <a:blip r:embed="rId1"/>
          <a:srcRect l="10063" t="32362" r="8534" b="26780"/>
          <a:stretch/>
        </p:blipFill>
        <p:spPr>
          <a:xfrm>
            <a:off x="250920" y="1268280"/>
            <a:ext cx="8642160" cy="51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2" descr="zhd22"/>
          <p:cNvPicPr/>
          <p:nvPr/>
        </p:nvPicPr>
        <p:blipFill>
          <a:blip r:embed="rId1"/>
          <a:srcRect l="7518" t="31079" r="6360" b="22906"/>
          <a:stretch/>
        </p:blipFill>
        <p:spPr>
          <a:xfrm>
            <a:off x="250920" y="1557360"/>
            <a:ext cx="8642160" cy="4967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失血量估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24000" y="3141720"/>
            <a:ext cx="158400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5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0-1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95280" y="4292640"/>
            <a:ext cx="158436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0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395280" y="5300640"/>
            <a:ext cx="158436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5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2843280" y="3429000"/>
            <a:ext cx="1800000" cy="3988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（头晕，畏寒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咯血与呕血的鉴别诊断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79280" y="1268280"/>
          <a:ext cx="8713800" cy="4740480"/>
        </p:xfrm>
        <a:graphic>
          <a:graphicData uri="http://schemas.openxmlformats.org/drawingml/2006/table">
            <a:tbl>
              <a:tblPr/>
              <a:tblGrid>
                <a:gridCol w="1800360"/>
                <a:gridCol w="3313080"/>
                <a:gridCol w="3600360"/>
              </a:tblGrid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咯    血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呕    血</a:t>
                      </a:r>
                      <a:r>
                        <a:rPr b="0" lang="zh-CN" sz="1800" spc="-1" strike="noStrike">
                          <a:solidFill>
                            <a:srgbClr val="996633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病因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肺结核、支气管扩张症、肺炎、肺脓肿、肺癌、心脏病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消化性渍病、肝硬化、急性糜烂出血性胃炎、胆道出血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前症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喉部痒感、胸闻、咳嗽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上腹不适、恶心、呕吐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方式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咯出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呕出，可为喷射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血色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鲜红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棕黑、暗红、有时鲜红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血中混有物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痰、泡沫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食物残渣、胃液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酸碱反应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碱性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酸性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黑便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除非咽下，否则没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有，可为柏油样便，呕血停止后仍持续数日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后痰性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常有血痰数日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无痰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呕血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黑便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呕血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黑便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语言阐述呕血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语言阐述黑便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呕血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黑便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相关疾病史及诱发因素（饮食、药物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呕血咯血鉴别、黑便（食物、药物），并排除相关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特点：次数、量、颜色、性状及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对功能性健康型态的影响：循环血量不足、情绪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组织灌注量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活动无耐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恐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潜在并发症：休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有误吸的危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焦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2" descr="dy13"/>
          <p:cNvPicPr/>
          <p:nvPr/>
        </p:nvPicPr>
        <p:blipFill>
          <a:blip r:embed="rId1"/>
          <a:srcRect l="11408" t="17455" r="42120" b="15481"/>
          <a:stretch/>
        </p:blipFill>
        <p:spPr>
          <a:xfrm>
            <a:off x="900000" y="1413000"/>
            <a:ext cx="3915000" cy="450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dy16"/>
          <p:cNvPicPr/>
          <p:nvPr/>
        </p:nvPicPr>
        <p:blipFill>
          <a:blip r:embed="rId2"/>
          <a:srcRect l="11408" t="17467" r="42120" b="16093"/>
          <a:stretch/>
        </p:blipFill>
        <p:spPr>
          <a:xfrm>
            <a:off x="4859280" y="1414440"/>
            <a:ext cx="3780000" cy="4462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5480" y="369720"/>
            <a:ext cx="55227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部位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68360" y="1413000"/>
            <a:ext cx="82090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2" descr="GITractbi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258920" y="1413000"/>
            <a:ext cx="3411360" cy="4680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5708880" y="3281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上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637600" y="4653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下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635280" y="3487680"/>
            <a:ext cx="1600200" cy="228600"/>
          </a:xfrm>
          <a:prstGeom prst="leftArrow">
            <a:avLst>
              <a:gd name="adj1" fmla="val 50000"/>
              <a:gd name="adj2" fmla="val 17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35280" y="491328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7" descr="D"/>
          <p:cNvPicPr/>
          <p:nvPr/>
        </p:nvPicPr>
        <p:blipFill>
          <a:blip r:embed="rId2"/>
          <a:stretch/>
        </p:blipFill>
        <p:spPr>
          <a:xfrm>
            <a:off x="4137120" y="3933720"/>
            <a:ext cx="57132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1219320"/>
            <a:ext cx="6629400" cy="75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250920" y="141300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呕血：指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屈氏韧带以上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消化道出血，血液经口腔呕出的现象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。（上消化道出血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黑便：上消化道出血时血液经肠道排出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色黑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而称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。柏油便（上消化道出血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68040" y="277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定  义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03360" y="369720"/>
            <a:ext cx="5943600" cy="3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食管溃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3" descr="eso-ulc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1484280"/>
            <a:ext cx="4032000" cy="432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胃角切部溃疡（A1期）"/>
          <p:cNvPicPr/>
          <p:nvPr/>
        </p:nvPicPr>
        <p:blipFill>
          <a:blip r:embed="rId3"/>
          <a:stretch/>
        </p:blipFill>
        <p:spPr>
          <a:xfrm>
            <a:off x="4716360" y="1484280"/>
            <a:ext cx="3959280" cy="43210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539640" y="1413000"/>
            <a:ext cx="8209080" cy="44640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食管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4" name="Picture 4" descr="ESO_TUMOR_1G2_150_16930"/>
          <p:cNvPicPr/>
          <p:nvPr/>
        </p:nvPicPr>
        <p:blipFill>
          <a:blip r:embed="rId1"/>
          <a:stretch/>
        </p:blipFill>
        <p:spPr>
          <a:xfrm>
            <a:off x="539640" y="1628640"/>
            <a:ext cx="3961080" cy="3961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ESO_CA_1_150"/>
          <p:cNvPicPr/>
          <p:nvPr/>
        </p:nvPicPr>
        <p:blipFill>
          <a:blip r:embed="rId2"/>
          <a:stretch/>
        </p:blipFill>
        <p:spPr>
          <a:xfrm>
            <a:off x="4572000" y="1628640"/>
            <a:ext cx="3960720" cy="3961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4000" y="1557360"/>
            <a:ext cx="8208720" cy="42480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03:28:50Z</dcterms:created>
  <dc:creator>yi</dc:creator>
  <dc:description/>
  <dc:language>en-US</dc:language>
  <cp:lastModifiedBy>赵欣</cp:lastModifiedBy>
  <dcterms:modified xsi:type="dcterms:W3CDTF">2015-12-16T07:59:02Z</dcterms:modified>
  <cp:revision>106</cp:revision>
  <dc:subject/>
  <dc:title>咯　血 (hemoptysis)</dc:title>
</cp:coreProperties>
</file>